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685800" cy="44355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D003-7384-4009-9E73-860158686A9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lide -</a:t>
            </a:r>
            <a:fld id="{F769B30D-5058-4870-9578-E032BA6AD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SCOM - Copyright©, 199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7086600" y="6324480"/>
          <a:ext cx="1825560" cy="241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6324480"/>
                    <a:ext cx="1825560" cy="2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kat Raghav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or Product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SCOM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uthorization Services for Multi-Tier Business Ap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480" y="1523880"/>
            <a:ext cx="792504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on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erprises require a security solution that provides privacy, integrity, and authenti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y model is based on public key cryptography (X509 certificates) and Secure Socket Layer (SS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Miss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ccess Contro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lement Manag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Repudi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 stored da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I Integr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-commerce authentic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Level Security Policy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Auth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 of determining whether a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ntified ent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ght or author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ecute a specific serv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ess a specific piece of inform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4419720"/>
            <a:ext cx="7315200" cy="1218960"/>
          </a:xfrm>
          <a:prstGeom prst="flowChartAlternateProcess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uthentication is a Prerequisit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819520" y="2286000"/>
            <a:ext cx="121896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ile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2286000"/>
            <a:ext cx="1219320" cy="15238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it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86000"/>
            <a:ext cx="1219320" cy="1523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2286000"/>
            <a:ext cx="609480" cy="19810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2286000"/>
            <a:ext cx="609480" cy="2057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3657600"/>
            <a:ext cx="1752480" cy="6094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B/V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2971800"/>
            <a:ext cx="1752480" cy="6858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2286000"/>
            <a:ext cx="175248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8880" y="2286000"/>
            <a:ext cx="16002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A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38880" y="2971800"/>
            <a:ext cx="16002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BA, M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8880" y="3657600"/>
            <a:ext cx="16002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/Leg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1066680"/>
            <a:ext cx="2514600" cy="1067040"/>
          </a:xfrm>
          <a:prstGeom prst="downArrowCallout">
            <a:avLst>
              <a:gd name="adj1" fmla="val 58921"/>
              <a:gd name="adj2" fmla="val 58915"/>
              <a:gd name="adj3" fmla="val 16667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KI, X.5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4419720"/>
            <a:ext cx="3124080" cy="990360"/>
          </a:xfrm>
          <a:prstGeom prst="upArrowCallout">
            <a:avLst>
              <a:gd name="adj1" fmla="val 78869"/>
              <a:gd name="adj2" fmla="val 78862"/>
              <a:gd name="adj3" fmla="val 16667"/>
              <a:gd name="adj4" fmla="val 66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rber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rnal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0"/>
            <a:ext cx="58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necting Apps, Resources, Authentic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5715000"/>
            <a:ext cx="3810240" cy="609480"/>
          </a:xfrm>
          <a:prstGeom prst="flowChartPunchedCard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A: Authorization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3809880"/>
            <a:ext cx="36576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Denominator - P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ilege Attribute Certificate (PAC) - basis for the Authorization Autho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ived from a mutually authenticated security contex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henticator + Entitlements = P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Neutral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graphically protected Data Structure which encodes user information, privileges, roles and entitle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 of 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horization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indepe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authorization coding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e of admin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velop existing authoriz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e multi-tiered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ilitate common audit attribu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Authorization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4495680"/>
            <a:ext cx="739152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imes New Roman"/>
              </a:rPr>
              <a:t>Infrastructure C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Times New Roman"/>
              </a:rPr>
              <a:t>(PKI, LDAP protocol, LDAP Servers, Other Authenticato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2590920"/>
            <a:ext cx="1371600" cy="18288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Times New Roman"/>
              </a:rPr>
              <a:t>Cred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Times New Roman"/>
              </a:rPr>
              <a:t>Aqui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2590920"/>
            <a:ext cx="1371600" cy="18288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2590920"/>
            <a:ext cx="1447920" cy="18288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Times New Roman"/>
              </a:rPr>
              <a:t>Entit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2590920"/>
            <a:ext cx="1523880" cy="18288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Times New Roman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Times New Roman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590920"/>
            <a:ext cx="1219320" cy="1828800"/>
          </a:xfrm>
          <a:prstGeom prst="rect">
            <a:avLst/>
          </a:prstGeom>
          <a:solidFill>
            <a:srgbClr val="dddddd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Au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1371600"/>
            <a:ext cx="739152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3623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205416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Times New Roman"/>
              </a:rPr>
              <a:t>Authorization 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horization Middlewa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ard programming and management mode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pplication authorization decisions and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amework of servic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nforce and manage application specific security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rastructure+Management+Interf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1371600"/>
          <a:ext cx="7726320" cy="52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26320" cy="52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amework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vailability and Perform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90720" y="990720"/>
          <a:ext cx="7726320" cy="52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90720"/>
                    <a:ext cx="7726320" cy="52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iness Dri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Authorization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ilege Attribute Certif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Tier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819520" y="2286000"/>
            <a:ext cx="121896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ile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2286000"/>
            <a:ext cx="1219320" cy="15238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it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2286000"/>
            <a:ext cx="1219320" cy="1523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2286000"/>
            <a:ext cx="609480" cy="19810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2286000"/>
            <a:ext cx="609480" cy="2057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3657600"/>
            <a:ext cx="1752480" cy="6094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B/V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2971800"/>
            <a:ext cx="1752480" cy="6858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2286000"/>
            <a:ext cx="175248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2286000"/>
            <a:ext cx="16002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A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2971800"/>
            <a:ext cx="16002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BA, M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657600"/>
            <a:ext cx="16002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1066680"/>
            <a:ext cx="2514600" cy="1067040"/>
          </a:xfrm>
          <a:prstGeom prst="downArrowCallout">
            <a:avLst>
              <a:gd name="adj1" fmla="val 58921"/>
              <a:gd name="adj2" fmla="val 58915"/>
              <a:gd name="adj3" fmla="val 16667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KI, X.5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4419720"/>
            <a:ext cx="3124080" cy="990360"/>
          </a:xfrm>
          <a:prstGeom prst="upArrowCallout">
            <a:avLst>
              <a:gd name="adj1" fmla="val 78869"/>
              <a:gd name="adj2" fmla="val 78862"/>
              <a:gd name="adj3" fmla="val 16667"/>
              <a:gd name="adj4" fmla="val 66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rber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rnal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0"/>
            <a:ext cx="58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ication Authorization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5715000"/>
            <a:ext cx="3810240" cy="609480"/>
          </a:xfrm>
          <a:prstGeom prst="flowChartPunchedCard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A: Authorization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3809880"/>
            <a:ext cx="36576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horization AP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Interface for Security Policy Dec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bility to generate PAC from multiple Authentic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PAC to query the Security Policy Infra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able from languages, C++, Java, CORBA, Forte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tiered Auth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calls to authorization service as the transaction passes through multiple-tiers of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 the client identity along with the unit of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ing the PAC is the de-facto standard and is recommen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800600" y="1143000"/>
            <a:ext cx="0" cy="5181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tiered Auth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19320" y="1676520"/>
          <a:ext cx="746748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76520"/>
                    <a:ext cx="74674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 flipH="1">
            <a:off x="4572000" y="1371600"/>
            <a:ext cx="137160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42160" y="990720"/>
            <a:ext cx="288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Credential Aqui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2895480"/>
            <a:ext cx="9144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5105520"/>
            <a:ext cx="9144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9200" y="76212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olidated Aud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28600" y="1119240"/>
          <a:ext cx="861048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19240"/>
                    <a:ext cx="861048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819520" y="1981080"/>
            <a:ext cx="8380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C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4724280"/>
            <a:ext cx="8384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C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3886200"/>
            <a:ext cx="8380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Cred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724280"/>
            <a:ext cx="8380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Cred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3886200"/>
            <a:ext cx="8380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Cred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4724280"/>
            <a:ext cx="8380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Cred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TOG Authorization Work 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API Standardization Proc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5181480"/>
            <a:ext cx="1828800" cy="990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Poli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1447920"/>
            <a:ext cx="2438280" cy="14475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205740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Authorization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181480" y="2819160"/>
            <a:ext cx="2210040" cy="23619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2819520"/>
            <a:ext cx="2057400" cy="23619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295280" y="1447920"/>
            <a:ext cx="3276720" cy="1447560"/>
            <a:chOff x="1295280" y="1447920"/>
            <a:chExt cx="3276720" cy="1447560"/>
          </a:xfrm>
        </p:grpSpPr>
        <p:sp>
          <p:nvSpPr>
            <p:cNvPr id="157" name=""/>
            <p:cNvSpPr/>
            <p:nvPr/>
          </p:nvSpPr>
          <p:spPr>
            <a:xfrm>
              <a:off x="1295280" y="1447920"/>
              <a:ext cx="3276720" cy="14475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ffffff"/>
                  </a:solidFill>
                  <a:latin typeface="Times New Roman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71600" y="2209680"/>
              <a:ext cx="31240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000" spc="-1" strike="noStrike">
                  <a:solidFill>
                    <a:srgbClr val="000000"/>
                  </a:solidFill>
                  <a:latin typeface="Times New Roman"/>
                </a:rPr>
                <a:t>Authorization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000" spc="-1" strike="noStrike">
                  <a:solidFill>
                    <a:srgbClr val="000000"/>
                  </a:solidFill>
                  <a:latin typeface="Times New Roman"/>
                </a:rPr>
                <a:t>Management 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514600" y="3733920"/>
            <a:ext cx="2349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Management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440" y="3733920"/>
            <a:ext cx="243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Authorization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Model, PKI and Object Based computing are driving requirements for implementing Authoriz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tensible Security Policy management is required to manage Multi-tier ap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ramework supporting applications, middleware, toolkits and custom solutions i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s implementing Authorization frameworks are available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876920" y="2286000"/>
            <a:ext cx="1904760" cy="1676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3657600"/>
            <a:ext cx="1904760" cy="1676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77120" y="2895480"/>
            <a:ext cx="1752480" cy="1676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3809880"/>
            <a:ext cx="1905120" cy="1676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2438280"/>
            <a:ext cx="1905120" cy="1676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a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3048120"/>
            <a:ext cx="1752480" cy="1676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7520" y="2895480"/>
            <a:ext cx="359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MON EFF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 to integ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cost of ow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horization in the Enterpr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ow do we manage and enforce security policy across </a:t>
            </a:r>
            <a:r>
              <a:rPr b="1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Applications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Authenticator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Resource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.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wsers, Visual Basic, Power Builder, Ja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Application servers, Frameworks, CORBA, Messaging, Transactional, Legacy, Home Gr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, Object Orien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.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s,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(Web, CORBA Level 1 and 2, Jav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s, Stored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le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I. Authentic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beros/D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Authentic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iness Dri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cost of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otal cost of own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e quicker time to 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rage existing security infra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lity to securely shar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Pro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Cost of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tune 100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 Applications under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Resource years average 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71.1 Million Cost of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% Estimated Security and Access Control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t of Authorization = $ 8.6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2T00:58:13Z</dcterms:created>
  <dc:creator>Christopher Birrell</dc:creator>
  <dc:description/>
  <dc:language>en-US</dc:language>
  <cp:lastModifiedBy>Venkat Raghavan</cp:lastModifiedBy>
  <dcterms:modified xsi:type="dcterms:W3CDTF">1998-12-09T16:35:42Z</dcterms:modified>
  <cp:revision>99</cp:revision>
  <dc:subject/>
  <dc:title>Selling the AUthAPI</dc:title>
</cp:coreProperties>
</file>